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4AE1-742E-4AD4-877F-702891FBA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92116-CD93-48E0-A11F-64100B996916}" type="slidenum"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meet everyone’s expectation.  Everyone situation is unique.  Please let me know how I can help you specif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260ED-DFF4-4278-880D-4F85D6730000}" type="slidenum"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1E03C-3050-4A74-904E-BD4F7B85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73FFC-E5CB-4458-8A46-7EF4E77C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61D6F-9BEB-4B96-8E6D-2277B44B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FD77-99B0-4704-86C9-80121758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904D-ADD6-4403-9ED3-326AAD53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8C57-92C4-4A7E-A641-8D2E5269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952A-639A-4C94-91AA-320C8A81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24EB-D67A-4AF4-892E-900B4293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A34A-3605-473F-BA62-59394E73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FC11-7A6F-4A4C-A48E-1F4FD982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258C-C96C-4B25-82D2-F82BFAC6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5394-E4FA-4535-877D-D12DA8CF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94B3-80B9-4D06-8DE5-1655D340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83C3-4220-40CC-9F34-311E0968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5254-9E7E-41C8-8260-70657798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D94E-7938-45B7-8E32-6E7BFEE2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259D-7753-4AEC-A2F8-8EB0ED6E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AE44-FAF4-4337-A3DE-B15B57E4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DE2A9-956B-467A-A143-106F9481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EE42D-1AEC-4E9D-902B-881EDA6E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7F30A-DC73-4F29-A5E1-F2BB76CB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98176-AC87-45AC-84B0-5B5A9A05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6333-F642-4B6B-A5D1-B973813E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33187-6670-440A-9B2A-D7EE5EC2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B101-CEBC-403C-9FDD-AFBB336C93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F11C-A583-47B1-82A7-1D4121D773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llegeboard.com/" TargetMode="External"/><Relationship Id="rId2" Type="http://schemas.openxmlformats.org/officeDocument/2006/relationships/hyperlink" Target="http://www.collegeconfidential.com/" TargetMode="External"/><Relationship Id="rId3" Type="http://schemas.openxmlformats.org/officeDocument/2006/relationships/hyperlink" Target="http://www.fastweb.com/" TargetMode="External"/><Relationship Id="rId4" Type="http://schemas.openxmlformats.org/officeDocument/2006/relationships/hyperlink" Target="http://www.smartaboutcollege.com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and Career Plan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lege Search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missions T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larshi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cial Ai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advice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eshmen and Sophom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r GPA is cumulati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t to know the adults at school and in your lif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ke classes that are interesting and challeng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 involved and stay involv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end some time thinking about what you plan to do after high school, then make a plan to get the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uni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ke some, not all, AP or Honors cours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ke your ACT or SAT exams this spring, especially if you’re in a fall spor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ke a tour of colleges and universities this spring brea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 it NOW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advice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io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’t self-select your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ly early (pay attention to deadlin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ly often (scholarship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ather accurate information from good sources  (financial ai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cate clearly and effectiv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ent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orecast:  fair to partly cloudy…hoping for sunsh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e Academy Award for Best Supporting Actor/Actress goes to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how things have chan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-78840"/>
            <a:ext cx="839340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you grew up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70'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your sophomore class picture, you're wearing a shirt with the collar "up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g warmers were c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ever asked to be gagged with a spo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ever had a Dorothy Hamill haircut or used Short and Sassy shamp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remember when Jordache jeans were c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remember "Friday Night Videos" before the days of MT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remember having to get off the couch to change the TV chann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took family trips BEFORE the invention of the mini-va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member riding in the back of the station wagon trying to get passing trucks to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onk at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r first musical purchase was an 8-track t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r parents paid $2,000 for a top-loading VCR that was almost the size of a coffee 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've ever owned a pair of rainbow suspenders like the ones Mork used to wea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067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10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333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019560"/>
            <a:ext cx="8229600" cy="3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SOURCE: The College Board, </a:t>
            </a:r>
            <a:r>
              <a:rPr b="0" i="1" lang="en-US" sz="800" spc="-1" strike="noStrike">
                <a:solidFill>
                  <a:srgbClr val="ffffff"/>
                </a:solidFill>
                <a:latin typeface="Garamond"/>
              </a:rPr>
              <a:t>Trends in College Pricing 2010,</a:t>
            </a: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Table 1A.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7" descr="Shadow 5.jpg"/>
          <p:cNvPicPr/>
          <p:nvPr/>
        </p:nvPicPr>
        <p:blipFill>
          <a:blip r:embed="rId1"/>
          <a:stretch/>
        </p:blipFill>
        <p:spPr>
          <a:xfrm>
            <a:off x="152280" y="1111320"/>
            <a:ext cx="8839440" cy="4200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P 2010 Table 1A.png"/>
          <p:cNvPicPr/>
          <p:nvPr/>
        </p:nvPicPr>
        <p:blipFill>
          <a:blip r:embed="rId2"/>
          <a:stretch/>
        </p:blipFill>
        <p:spPr>
          <a:xfrm>
            <a:off x="380880" y="1752480"/>
            <a:ext cx="838224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earch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plication process is all about discovering who you a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ermining the best “fi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seful websi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ww.actstudent.org (ACT exa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collegeboard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SAT exa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collegeconfidential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college search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.fastweb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scholarship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ww.fafsa.ed.gov (financial ai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CIS: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www.smartaboutcollege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tinel High School Library webpage, www.mcps.k12.mt.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i Ph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lege and Career Counsel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ay – Friday, 8:45-12:4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28-2400 ext. 702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dpham@mcps.k12.mt.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ebook:  www.facebook.com/shscollegecare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al thought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ducation is the most powerful weapon which you can use to change the world.”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lson Mandel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ease pick up some literature on your way o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nk you for your attention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ease let us know how we can help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 does graduation matte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5" descr="http://www.bls.gov/emp/ep_chart_001.JPG"/>
          <p:cNvPicPr/>
          <p:nvPr/>
        </p:nvPicPr>
        <p:blipFill>
          <a:blip r:embed="rId1"/>
          <a:stretch/>
        </p:blipFill>
        <p:spPr>
          <a:xfrm>
            <a:off x="228600" y="1676520"/>
            <a:ext cx="86104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Shadow 5.jpg"/>
          <p:cNvPicPr/>
          <p:nvPr/>
        </p:nvPicPr>
        <p:blipFill>
          <a:blip r:embed="rId1"/>
          <a:stretch/>
        </p:blipFill>
        <p:spPr>
          <a:xfrm>
            <a:off x="1257480" y="676440"/>
            <a:ext cx="6743520" cy="6029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Serifa Std 45 Light"/>
              </a:rPr>
              <a:t>Median Family Income by Selected Characteristics, 2009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651024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SOURCE: The College Board, </a:t>
            </a:r>
            <a:r>
              <a:rPr b="0" i="1" lang="en-US" sz="800" spc="-1" strike="noStrike">
                <a:solidFill>
                  <a:srgbClr val="ffffff"/>
                </a:solidFill>
                <a:latin typeface="Garamond"/>
              </a:rPr>
              <a:t>Trends in College Pricing 2010,</a:t>
            </a: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Figure 16B.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6" descr="CP 2010 Figure 04.png"/>
          <p:cNvPicPr/>
          <p:nvPr/>
        </p:nvPicPr>
        <p:blipFill>
          <a:blip r:embed="rId2"/>
          <a:stretch/>
        </p:blipFill>
        <p:spPr>
          <a:xfrm>
            <a:off x="1600200" y="838080"/>
            <a:ext cx="60310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earch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plication process is all about discovering who you a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ermining the best “fi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rding to President Dennison (8/27/09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0 H.S. Freshman --&gt;10 years later-only 18 have a degree (approximately 18% = 52 SHS stude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ctors to consider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-year or 4-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or Priv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 of Progr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ndardized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or the other, not bo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r highest score will be u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 (Good Stude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 penalty for wrong answ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rriculum based (all encompassing final exa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ience se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T (Good Test-take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¼ point penalty for every wrong answ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SAT tests your ability to take the SAT test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ies to determine “innate ability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holar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ost money available is at the college or university of inte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ing well-rounded mat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don’t have to be the top stu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adlines are our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be a good return on your time invest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ancial A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FSA form:  Free Application for Federal Student Ai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y after January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doesn’t hurt to app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igate the process, programs, and particul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F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OA – EFC = Ne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8:26:48Z</dcterms:created>
  <dc:creator>MCPS User</dc:creator>
  <dc:description/>
  <dc:language>en-US</dc:language>
  <cp:lastModifiedBy>tri pham</cp:lastModifiedBy>
  <dcterms:modified xsi:type="dcterms:W3CDTF">2010-11-09T21:51:01Z</dcterms:modified>
  <cp:revision>13</cp:revision>
  <dc:subject/>
  <dc:title>Slide 1</dc:title>
</cp:coreProperties>
</file>